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1EAD-B9F6-4095-9E2B-B7CAA424BB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9684A-00AF-417C-8621-3BAA0715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F5A7B-60B8-4E2F-8123-F3714798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A5AE9-5D46-4535-9079-CE37BB3677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0A6F3-B802-414F-9624-7B7200D8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DA169-2562-4DA6-8B76-8F626FB9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A2E20-0467-44E4-944E-347AC90C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DED9C-4F8E-43EA-9BC2-F34724EE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90F0D-C1C4-4126-A605-2302CADA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ABF35-73EA-4EA7-AFA9-08520F3C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63625-8FC9-4207-81AF-13A7B2CC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6569-04AD-4659-9F84-7541A5F0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3B7F-D182-4AF8-9AA6-A9CE1BF61D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骨肉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儿明确诊断为骨肉瘤。施行化疗后肿瘤继续增大，影像学检查示股骨广泛病灶，予以髋关节离断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儿术后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与担心肢体功能丧失、预后不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肿瘤压迫周围组织、病理性骨折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躯体活动障碍 与关节活动受限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截肢和化疗副作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病理性骨折、幻肢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动态评估患者的疼痛程度，采取合适的镇痛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制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药物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加重疼痛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镇痛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应用自控镇痛泵或神经阻滞等方法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用药的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局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化疗前的准备工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过程中的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并发症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肢术后患者抬高患肢；膝部手术后保持膝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距小腿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髋部手术后保持髋关节外展中立位；脊柱手术后患者取平卧位，采取轴线翻身法；骶骨肿瘤切除术后患者俯卧侧卧交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生命体征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血运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伤口引流液的量、颜色、性状以及伤口敷料渗血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后即开始进行被动和主动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应抬高患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和血肿：最常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幻肢痛：术前做好解释；早期装配假肢并下床活动锻炼；使用理疗、封闭、神经阻断的方法消除幻肢痛；采取增加舒适的措施；采用暗示的方法，尽量减少药物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肢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残端给予均匀压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活动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力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端按摩、拍打及蹬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拆线后尽早使用临时义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肉瘤的发病特点和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分骨肉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日光射线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骨肉瘤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肉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树立平稳心态，消除心理顾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讲解功能锻炼的重要性，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教会患者或家属自我检查和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仍有疼痛的患者，告知患者止痛药物的使用方法、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目前还不清楚，可能与遗传学因素、病毒感染、放射线损伤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早期间歇性疼痛，晚期发展为持续性疼痛；可触及明显增大的肿块，瘤体表面血管怒张；肢体活动受限，易合并病理性骨折；晚期有肺转移表现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典型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“日光射线”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全身化疗（特别是应用新辅助化疗）结合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术前护理应加强患者及家属的心理疏导，饮食护理，采取适宜的措施控制和缓解疼痛，做好肿瘤局部护理，加强化疗过程的观察和护理，术前进行适应性训练。术后应采取正确的体位，严密观察病情，指导功能锻炼，对截肢患者应安置适当体位，观察出血和血肿、幻肢痛等并发症，指导患者进行残肢功能锻炼，尽快装配义肢，提高生活自理能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steosarc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也称为成骨肉瘤，在原发骨肿瘤中居第二位，仅次于浆细胞骨髓瘤，其组织学特点是肿瘤细胞产生骨样或者不成熟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常用的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G-T-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分期系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儿，女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前出现左大腿持续性隐痛不适，左大腿中段肿胀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左大腿中段稍肿大，扪及肿块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小，局部压痛，皮肤无破溃，无静脉曲张，左下肢感觉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股骨中段有骨破坏病灶，局部骨皮质增厚，骨膜反应日光样表现，软组织肿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碱性磷酸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93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6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乳酸脱氢酶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47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92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360" y="1196640"/>
            <a:ext cx="918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骨肉瘤的重要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于检测肺转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髓腔内肿瘤侵犯的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 有利于显示骨内的跳跃和转移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沉、碱性磷酸酶、血清铜、锌、铜锌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141800" cy="3662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1260720" y="50752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dma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三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图片 8" descr=""/>
          <p:cNvPicPr/>
          <p:nvPr/>
        </p:nvPicPr>
        <p:blipFill>
          <a:blip r:embed="rId2"/>
          <a:stretch/>
        </p:blipFill>
        <p:spPr>
          <a:xfrm>
            <a:off x="5010120" y="1379520"/>
            <a:ext cx="3162240" cy="3728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5552640" y="50752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日光射线”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遗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和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术前进行化疗，术后根据情况选择治疗方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包括截肢术、改良截肢术、半关节移植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24:32Z</dcterms:modified>
  <cp:revision>108</cp:revision>
  <dc:subject/>
  <dc:title>内科护理学</dc:title>
</cp:coreProperties>
</file>